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FF3-2A59-44E0-952B-21D0DCD3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435-28D2-4723-89C7-06EDA3DC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AA4-617F-4B68-ADD6-015BE29B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7CC-7917-4C5C-AD49-B0ADD201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1039-809D-4BA3-8FCA-AE98302D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93E4-C16E-4336-90F7-A5CDE87D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19FF-AFC4-4DA8-B195-F92CE709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7C62-6D5C-4A14-89C1-1FE5DA41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472D-3F24-4DF6-90DE-E9E44409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FAE9-37CD-4924-9CFE-F3359F2E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4074-E182-4996-8E37-9D5B701B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DBE-D363-491E-A6B5-BB101D74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34B8-5DCA-47EF-BDA6-42F60636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12F8-5E80-4B6F-A7EA-4B4F17B9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30A6-7028-4B19-98AE-A81476C1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3772-7D2E-4139-A9E4-129A8801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9E4C-9161-4A80-ABEE-DCDF2299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55D-E185-4327-BA5B-063588E2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17E-5858-449C-9FEE-AEAFD03C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AD4-9338-489B-96C4-DFADD3EF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E0F-4E18-40D1-917F-C43BFB85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B18-AFC5-4647-89B8-DAC0A13B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9FC-11AF-400E-9700-F05E6690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11B-9D20-4B7B-B5AE-C2095E15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83CB-0F84-456C-818D-0BE911122E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1369-51C3-4395-887C-4C911EAD77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troduction to J2E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SE587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ring 200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steps in Designing a Distributed Application with J2E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will now look at how to design a Distributed Application with J2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will look at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to design the general framework in a distributed mann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ch APIs are used to design the needed compon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ch APIs are used for communication between compon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ther issues that will influence our design strate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495680" y="3657600"/>
            <a:ext cx="685800" cy="360"/>
          </a:xfrm>
          <a:prstGeom prst="line">
            <a:avLst/>
          </a:prstGeom>
          <a:noFill/>
          <a:ln w="4428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4952880"/>
            <a:ext cx="251460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4343400"/>
            <a:ext cx="19814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Entity EJ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67480" y="42670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igh-level Fra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3809880"/>
            <a:ext cx="266688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Business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4952880"/>
            <a:ext cx="26668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Databas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54864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Organization into lay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(high-level view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991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65600" y="5486400"/>
            <a:ext cx="211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J2EE technologies u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at the different lay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10080" y="3809880"/>
            <a:ext cx="25146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Session EJ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3200400"/>
            <a:ext cx="19051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Tagli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2666880"/>
            <a:ext cx="190512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J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2590920"/>
            <a:ext cx="53316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2133720"/>
            <a:ext cx="25146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Servl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2133720"/>
            <a:ext cx="266688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-level Framework – cont’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2EE Implementations are Tier Bas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age Source: Sun J2EE Blueprints™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1981080" y="2209680"/>
            <a:ext cx="4572000" cy="3353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lient Tier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three ways to implement the Client T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b Clients (Thin Client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l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lication Clients (Stand-Alone Client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4653000" y="3110040"/>
            <a:ext cx="4033800" cy="28018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533520" y="3124080"/>
            <a:ext cx="38098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ions in Designing th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ent Ti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1828800"/>
            <a:ext cx="4267440" cy="1830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Times New Roman"/>
              </a:rPr>
              <a:t>Network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b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Latency is non-zer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b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Bandwidth is fin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b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Information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4343400"/>
            <a:ext cx="5639040" cy="1465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Times New Roman"/>
              </a:rPr>
              <a:t>Security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b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Presence of Firew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b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User Authentication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2592360"/>
            <a:ext cx="4648320" cy="1830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Times New Roman"/>
              </a:rPr>
              <a:t>Platform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b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Multiple Operating Syst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b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Graphical Display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b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Processing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unication between the Client Tier and the web Tier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 use standard protocols for communication between the Client and web T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TT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IO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choosing the communication protocol we must take the standard client considerations in to accou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b Ti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Web Tier is the Front End of the J2EE Serv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 Source : Sun J2EE Blueprints™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1344600" y="2019240"/>
            <a:ext cx="60516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nctions performed by the Web Ti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s communication between Clients and the business ti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tes Dynamic Cont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eps track of current s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pports multiple client typ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fits of implementing the Web Ti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67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ouples Presentation and Log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parates Developer Ro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s a Central Point of Ac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s a second level of secur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usiness (EJB) Ti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usiness Tier hosts application-specific business logic and provides system-level services such as transaction management, concurrency control, and securit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0440" y="6191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52280" y="620244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73040" y="620244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64280" y="620244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698400" y="2666880"/>
            <a:ext cx="72630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up J2E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2EE is a Collection of Technologies and AP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basic concepts in J2E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on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ain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nec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0440" y="63151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5562720" y="1676520"/>
            <a:ext cx="3230280" cy="3967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734280" y="51814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334120" y="4876920"/>
            <a:ext cx="457200" cy="38088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48320" y="2819520"/>
            <a:ext cx="1295280" cy="228600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usiness (EJB) Ti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240" y="16128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ssion Be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ssion bea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represents a single client inside the J2EE server. To access an application that is deployed on the server, the client invokes the session bean's metho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tity Be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entity bea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represents a business object in a relational database. Some examples of business objects are customers, orders, and produc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ssage Driven Be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essage-driven bea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s an enterprise bean that allows J2EE applications to process messages asynchronously. It acts as a JMS message listen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70440" y="6327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52280" y="63388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73040" y="63388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64280" y="63388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nctions Performed by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siness Ti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tains S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erates on Shared D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ticipates in Transac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rvices a large number of cli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s remote access to d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s ac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2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erprise Information System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IS) Ti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contain Applications, Databases and legacy EIS ti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433600" cy="7621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1976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9044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01732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12296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2743200" y="1568520"/>
            <a:ext cx="63244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unication between the EIS Tier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the Business Ti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nchronous Vs Asynchronous Integr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Is which can be used include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2EE Connector Architecture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ava Message Service (JMS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ava Transaction (JT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DB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tion consideratio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the communication with EIS Ti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gramming Access to data and func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ucing application development effort in accessing the E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tting connections to EIS and managing the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pporting security requir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 far we have seen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makes up the J2EE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to design a Distributed Application with J2E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ould I pick J2EE to design a Distributed Application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2EE provides a structured model to break down and implement each segment of Distributed Application concurrently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hanced Portability due to the Container Architec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erence Implementation and APIs provide a clear benchmark for a Enterprise 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be improved in J2E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pport for more Platfor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rove Development and Deployment Too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ep J2EE and J2SE versions consistent with each oth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inue to improve JVM perform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up J2E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2EE is a Collection of Technologies and AP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basic concepts in J2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on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ain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nec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5562720" y="1676520"/>
            <a:ext cx="3230280" cy="3967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03480" y="426708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952880" y="3429000"/>
            <a:ext cx="990720" cy="83808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4724280"/>
            <a:ext cx="533520" cy="22860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up J2E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2EE is a Collection of Technologies and AP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basic concepts in J2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on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in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necto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562720" y="1676520"/>
            <a:ext cx="3230280" cy="3967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962880" y="46483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ne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10080" y="3733560"/>
            <a:ext cx="1524240" cy="99036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J2EE compon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a self-contained functional software unit that is assembled into a J2EE application with its related classes and files and that communicate with other component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three types of Compon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ent Compon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b Compon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siness Componen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ent Compon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ecute on the Client Mach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ually provides a GU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 Compon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nerate the Graphical Display sent to the Cl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lidate data and access that passes through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siness Componen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lement the Business Logic of the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in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J2EE Container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re the interface between a component and the low-level platform specific functionality that supports the componen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ainers can also be described as standardized runtime environments that provide specific services to compon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1800360"/>
            <a:ext cx="2971800" cy="3822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5562720" y="1447920"/>
            <a:ext cx="3429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ortance of Contain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action support for database connec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onent Life cycle managemen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ized access to Enterprise Information System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s a mechanism for selecting application behaviors at deployment tim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ecto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J2EE connector is a software unit that facilitates communication between component container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2EE Connector APIs provide capabilities such 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nsaction Execu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ure Message Pas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lational Database Ac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286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858000" y="609588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57200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70440" y="6315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52280" y="6326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73040" y="63262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64280" y="632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3:51:23Z</dcterms:created>
  <dc:creator> Juan M. Gomez</dc:creator>
  <dc:description/>
  <dc:language>en-US</dc:language>
  <cp:lastModifiedBy> Juan M. Gomez</cp:lastModifiedBy>
  <dcterms:modified xsi:type="dcterms:W3CDTF">2003-02-26T04:37:03Z</dcterms:modified>
  <cp:revision>17</cp:revision>
  <dc:subject/>
  <dc:title>Slide 1</dc:title>
</cp:coreProperties>
</file>